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4B4-4246-4AC7-A8B9-BFFA4037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89E-F98C-449C-951B-5A25697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D41-B8DD-465C-A7CB-4B84AC06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AE9-65AF-431A-9407-D3D564E9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943-150E-473B-AC20-CA702CC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EB9-C718-4E13-9D6E-EE22C39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C15-AE13-4D50-8BC4-504ECCDE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BBD-CC91-42C7-9A4C-8519AFC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922-73D7-4B1F-A9D6-A74353E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179-75CD-40C1-AF66-2633B1F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594-03DD-409F-9417-3469E19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464-32DA-4590-90A8-5AAC422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E6B-0530-4AF2-B86A-051C2832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ough - Berechn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wird der Akkum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chne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d wird Pixel für Pixel abgearbei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216320" cy="45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351612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661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in 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Berechnung der Sinuskurve wird im rechten Bild grün dargestel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in 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656160" cy="37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419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 Überschneidungen werden die entsprechenden Stellen im Akkumulator immer dunk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32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in 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mehrer Pixel in einer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2744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4419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graue „Zelle“ markiert den höchsten Peak - Aussch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32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in 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mehrer Pixel in einer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97280" cy="38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419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Keine Linie, keine Sinuskurve im Hough Raum ( Akkumulator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32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in 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Pixel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235320" cy="331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4419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8:00:25Z</dcterms:created>
  <dc:creator> A. Zipser</dc:creator>
  <dc:description/>
  <dc:language>en-US</dc:language>
  <cp:lastModifiedBy> A. Zipser</cp:lastModifiedBy>
  <dcterms:modified xsi:type="dcterms:W3CDTF">2006-02-01T08:28:48Z</dcterms:modified>
  <cp:revision>1</cp:revision>
  <dc:subject/>
  <dc:title>Hough - Berechnung</dc:title>
</cp:coreProperties>
</file>