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9810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41306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41306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9810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81280" y="6400800"/>
            <a:ext cx="243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7240">
            <a:solidFill>
              <a:srgbClr val="e1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63600" y="6651720"/>
            <a:ext cx="314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lfgang Konen – WPF Spiele &amp;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67480"/>
          <a:ext cx="304920" cy="29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67480"/>
                    <a:ext cx="3049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7543800" y="6651720"/>
            <a:ext cx="152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apitel  -  </a:t>
            </a:r>
            <a:fld id="{E880781A-D96E-4BC6-ADC5-14C259EAE0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7885080" y="0"/>
            <a:ext cx="1258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eSi4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OeSi4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OeSi4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Arial"/>
              </a:rPr>
              <a:t>Ergänzung zu </a:t>
            </a:r>
            <a:br>
              <a:rPr sz="3600"/>
            </a:br>
            <a:r>
              <a:rPr b="1" i="1" lang="de-DE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3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Konkurrenz der Arten</a:t>
            </a:r>
            <a:r>
              <a:rPr b="1" i="1" lang="de-DE" sz="3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. Dr. Wolfgang K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 Kö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27280" y="5229360"/>
            <a:ext cx="37814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Konkurrenz der Arten</a:t>
            </a:r>
            <a:br>
              <a:rPr sz="2800"/>
            </a:b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Zusammenstellung der Vermutunge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557360"/>
          <a:ext cx="7924680" cy="4840200"/>
        </p:xfrm>
        <a:graphic>
          <a:graphicData uri="http://schemas.openxmlformats.org/drawingml/2006/table">
            <a:tbl>
              <a:tblPr/>
              <a:tblGrid>
                <a:gridCol w="582480"/>
                <a:gridCol w="5832360"/>
                <a:gridCol w="1509840"/>
              </a:tblGrid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ut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eb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onkurrenzausschluß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i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de-D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mmer dan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enn 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liegt also weniger an r, daher sei ab jetzt immer 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onkurrenzausschluß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i 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de-D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mmer dan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enn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e Art mit dem größeren K überlebt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usi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oexistenz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i 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de-D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mmer dan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enn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usi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oexistenz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i 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de-D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mmer dan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enn die Nullwachstumskurven sich im positiven Quadranten schnei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948360" y="2133720"/>
            <a:ext cx="151128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429000"/>
            <a:ext cx="15112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5300640"/>
            <a:ext cx="15112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508640"/>
            <a:ext cx="1511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852640"/>
            <a:ext cx="7343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3429000"/>
            <a:ext cx="5832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508640"/>
            <a:ext cx="5832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5300640"/>
            <a:ext cx="583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Konkurrenz der Arten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Zusammenstellung der Vermutunge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700280"/>
          <a:ext cx="7925040" cy="2738520"/>
        </p:xfrm>
        <a:graphic>
          <a:graphicData uri="http://schemas.openxmlformats.org/drawingml/2006/table">
            <a:tbl>
              <a:tblPr/>
              <a:tblGrid>
                <a:gridCol w="582840"/>
                <a:gridCol w="5832360"/>
                <a:gridCol w="150984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ut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eb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ist mit beliebigem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Kombination 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 beliebigem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Koexistenz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i 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</a:t>
                      </a:r>
                      <a:r>
                        <a:rPr b="0" lang="de-DE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1" lang="de-D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mmer dan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enn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r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050920" y="3833640"/>
                <a:ext cx="4248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948360" y="3070080"/>
            <a:ext cx="151128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3070080"/>
            <a:ext cx="5832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ada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16:15:35Z</dcterms:created>
  <dc:creator>Wolfgang Konen</dc:creator>
  <dc:description/>
  <dc:language>en-US</dc:language>
  <cp:lastModifiedBy>Wolfgang Konen</cp:lastModifiedBy>
  <dcterms:modified xsi:type="dcterms:W3CDTF">2004-11-19T14:03:49Z</dcterms:modified>
  <cp:revision>20</cp:revision>
  <dc:subject/>
  <dc:title>PowerPoint-Präsentation</dc:title>
</cp:coreProperties>
</file>